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6C35-0DBC-48B8-9949-FA04643E35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6127-86C8-4D12-A266-DBEE72760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186C-B4A7-41BA-AF73-45705E6A6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est continent to Antarctica 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pe of Good Hope the distance is about 5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ape Horn the distance is about 4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n’t matter where you go, travel away from Antarctica is always to the North! A trick ques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h bigger in the west – that land is a bit lower but the snow is a bit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x 2 = 28 + ½ 14 = 7 total 35 with 9 ’s! 35 bill sq k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436E-6A90-4952-8BBF-394F73C2B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29A2-3E14-4589-8647-5511E6913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4C06-4F9E-4E3F-B385-9AEE2E6B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4536-38AA-453E-A7A3-30AD86E06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F69D-B517-45A9-BF90-0CE4164A27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3DF7-E5EA-496E-88F0-647103C9B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2430-1E65-4E4C-A70A-61654B9ACB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4B75-E9BD-4707-9F5F-E663D44FED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904F-ED4B-413E-B9E3-F741F7F42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11FD-5E71-4EF2-842C-FFCE025D0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541F-F84F-4F56-9141-FB570F2A19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256F-85B7-464C-B68E-44E8B6FCC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5BBF-8C30-4924-A1C3-D535725E28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E455-3C95-4703-94E9-63F5C6B0BD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8D2D-C024-4A52-A482-AB8C8115F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14DC-C47E-4A81-9229-6CFE54E3D6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AFF9-F5A3-4EB5-B082-361A67A61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C8EC-9CB5-48E1-B49F-EBE551BF0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968C-529F-41A3-B947-1D04A63DB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AE85-E4F3-4C92-B2D8-ED15156A2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78D6-12B6-443A-808D-F75DDB831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4445-5C53-4870-991D-9A8010874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DFA2-F43E-41CA-8D11-A4BABFC2C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E945-B63D-4584-A863-40F74CA0A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5949720"/>
            <a:ext cx="8636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C50-1295-4416-A5D1-D4953ED43943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250D-A065-4844-A866-230D52EE6715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tarctica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0633-FEE1-441D-8478-FD638F241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next bit is about what has happened to Antarctica over tim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71640" y="4221000"/>
            <a:ext cx="7488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So just to remind those who have done it before – and for those who have never come across it…..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9302-7E44-483D-B778-8F39FB69E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7192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56120" y="102960"/>
            <a:ext cx="4836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Structure of the Earth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26920" y="907920"/>
            <a:ext cx="4505760" cy="1229760"/>
            <a:chOff x="826920" y="907920"/>
            <a:chExt cx="4505760" cy="1229760"/>
          </a:xfrm>
        </p:grpSpPr>
        <p:sp>
          <p:nvSpPr>
            <p:cNvPr id="198" name=""/>
            <p:cNvSpPr/>
            <p:nvPr/>
          </p:nvSpPr>
          <p:spPr>
            <a:xfrm rot="1084200">
              <a:off x="3255120" y="1517040"/>
              <a:ext cx="2081520" cy="304920"/>
            </a:xfrm>
            <a:prstGeom prst="rightArrow">
              <a:avLst>
                <a:gd name="adj1" fmla="val 50000"/>
                <a:gd name="adj2" fmla="val 170661"/>
              </a:avLst>
            </a:prstGeom>
            <a:solidFill>
              <a:srgbClr val="cc66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6920" y="907920"/>
              <a:ext cx="2775240" cy="1191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thin crust - 10-100km thick and not very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0920" y="2276640"/>
            <a:ext cx="4937760" cy="1191240"/>
            <a:chOff x="250920" y="2276640"/>
            <a:chExt cx="4937760" cy="1191240"/>
          </a:xfrm>
        </p:grpSpPr>
        <p:sp>
          <p:nvSpPr>
            <p:cNvPr id="201" name=""/>
            <p:cNvSpPr/>
            <p:nvPr/>
          </p:nvSpPr>
          <p:spPr>
            <a:xfrm rot="21440400">
              <a:off x="3209760" y="2428920"/>
              <a:ext cx="1972800" cy="304920"/>
            </a:xfrm>
            <a:prstGeom prst="rightArrow">
              <a:avLst>
                <a:gd name="adj1" fmla="val 50000"/>
                <a:gd name="adj2" fmla="val 161747"/>
              </a:avLst>
            </a:prstGeom>
            <a:solidFill>
              <a:srgbClr val="ff99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2276640"/>
              <a:ext cx="3369960" cy="119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mantle – extends almost halfway to the centre, hot and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9280" y="3331080"/>
            <a:ext cx="5466240" cy="2536560"/>
            <a:chOff x="179280" y="3331080"/>
            <a:chExt cx="5466240" cy="2536560"/>
          </a:xfrm>
        </p:grpSpPr>
        <p:sp>
          <p:nvSpPr>
            <p:cNvPr id="204" name=""/>
            <p:cNvSpPr/>
            <p:nvPr/>
          </p:nvSpPr>
          <p:spPr>
            <a:xfrm rot="20285400">
              <a:off x="3541320" y="3715920"/>
              <a:ext cx="2123640" cy="304920"/>
            </a:xfrm>
            <a:prstGeom prst="rightArrow">
              <a:avLst>
                <a:gd name="adj1" fmla="val 50000"/>
                <a:gd name="adj2" fmla="val 174115"/>
              </a:avLst>
            </a:prstGeom>
            <a:solidFill>
              <a:srgbClr val="fee97e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9280" y="3944880"/>
              <a:ext cx="3893400" cy="1922760"/>
            </a:xfrm>
            <a:prstGeom prst="rect">
              <a:avLst/>
            </a:prstGeom>
            <a:solidFill>
              <a:srgbClr val="fee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core – made of molten nickel and iron.  Outer part is liquid and inner part is solid.  Gets hot due to radioactive decay.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7200" y="6035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99"/>
                </a:solidFill>
                <a:latin typeface="Comic Sans MS"/>
              </a:rPr>
              <a:t>The Earth is believed to be 4500 million years 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E505-4FD1-4C68-9C96-6CEB5BA277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Plates and plate boundar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earth's crust is                                                 broken up into piec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se pieces are called                                          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t rising and falling                                                            inside the mantle creates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convection current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onvection currents move the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ovement of the plates, and the activity inside the earth, is called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tectonic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point where two plates meet is called 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boundary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5076720" y="1125360"/>
            <a:ext cx="379116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061D-1049-486E-A7FB-37F57C1489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9280" y="333360"/>
            <a:ext cx="770544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CB42-05E0-4950-8F74-17494AF78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So where did Antarctica fit into all this move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770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OR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How Gondwana became the world we know today 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378B-4537-42DD-956E-A10DA5D66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673520" cy="467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24360" y="347328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78800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7291800">
            <a:off x="6081480" y="316512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AF7B-049F-41D9-89AC-0A12C60D34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7459800">
            <a:off x="5254560" y="33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581360"/>
            <a:ext cx="2089080" cy="1295640"/>
          </a:xfrm>
          <a:prstGeom prst="wedgeRoundRectCallout">
            <a:avLst>
              <a:gd name="adj1" fmla="val 34347"/>
              <a:gd name="adj2" fmla="val -83944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re is a link on the wiki to an animated version of thi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F449-09DC-4C58-80C3-C7E5FC28F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 continent almost entirely buried by snow and i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so hostile and remote that it has no permanent resident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urrounded by the Southern Ocean, Antarctica covers nearly 9% of the Earth’s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40360" y="4581000"/>
            <a:ext cx="475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25% bigger than Europe, making it the fifth largest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lso the least polluted of all the continent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924360" y="1125360"/>
            <a:ext cx="5038560" cy="333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68FE-3B06-43A4-8495-A301D400FB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ntarctica is divided into two main areas: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East Antarctica (sometimes called Greater Antarctica), and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West Antarctica (Lesser Antarctica)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y are separated by the Transantarctic Mountains that stretch 3,540 kilometres across the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4360" y="458100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est Antarctica is the smallest of the two and has a peninsula that sticks out nearly 1,000 towards the southern tip of South America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500720" y="731880"/>
            <a:ext cx="4464000" cy="3900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8D0B-E15E-4F9C-8CE7-4E2D81D894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bout 99% of Antarctica is covered with a vast ice shee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It is the largest single mass of ice on Earth and is bigger than the whole of Europ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t least 3 million years old (and as much as 30 million years old in places)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ice sheet averages 2,450 metres deep and holds about 70% of the world’s fresh wa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average altitude is about 2,300 metres above sea level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Vinson Massif is Antarctica’s highest point, rising to a height of 4,897 metr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7640" y="4292280"/>
            <a:ext cx="446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ut in places, the bottom of the ice can be as much as 3,000m below sea level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 they weren’t filled with ice, large parts of Antarctica would be under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4427640" y="836640"/>
            <a:ext cx="4392360" cy="335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2000-C2D6-419D-A1A7-9EAB6B34CD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we going to do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ere is it? What is it? Why it is like tha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goes on there? How did that come about? What are the pressures on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Antarctica and Global warming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visiting the place? Would you like to g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have you found out about Antarctica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767B-4AB9-4EF2-A852-394EA02357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321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tarctica’s ice sheet is constantly on the mov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uge rivers of ice known as glaciers are pulled slowly by gravity from the interior towards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long the way, the ice cracks, breaks and is ruptured by underlying rock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Crevasses up to hundreds of metres deep can form on the surfac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On reaching the sea, the glaciers spill out over the water’s surface and create gigantic floating blocks of ice called ice shelv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argest, the Ross Ice Shelf, is the size of Fran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920" y="3500280"/>
            <a:ext cx="4249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metimes pieces of an ice shelf break off to form iceberg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eyond the ice shelves, much of the surrounding ocean freezes over during the win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With this extra winter sea-ice, Antarctica almost doubles in siz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4643280" y="692280"/>
            <a:ext cx="4256280" cy="279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34C2-53B4-4349-A10B-6442D80688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Do they have seasons on Antarctica or is always just col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 I get you to count icy squares (1 mill km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each), I think we need to discuss something – do you notice anything odd here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what is going on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2524320" cy="25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7492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rc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ptemb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60A2-2CFA-4552-BA6C-91562603B8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ly you will have come across Antarctica on a map like thi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760" y="1263600"/>
            <a:ext cx="89344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DEEF-2DF2-462B-8208-A1BF40F377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How many UKs could fit into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048280" cy="504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4581360"/>
            <a:ext cx="1800000" cy="648000"/>
          </a:xfrm>
          <a:prstGeom prst="cloudCallout">
            <a:avLst>
              <a:gd name="adj1" fmla="val 116050"/>
              <a:gd name="adj2" fmla="val -399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uess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EF82-F5D9-4B34-B973-49C90A1E8A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w can we do it properly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we know the area of each location (UK and Antarctica),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can divide Antarctica area by the UK are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ntarctica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13,829,43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UK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224,82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w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alculat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about how many countries the size of the UK would fit into Antarctica what is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3968-2909-44B8-BFC1-149EC6AA4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about the other parts of the world?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566100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ich is it closest to it in size? Which is it just less than double? Can you put them in orde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128000" cy="46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448A-77CD-48FC-9059-168820B35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Upside down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is the nearest continent to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pproximately how far is it from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South Pole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Cape of Good Hop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pe Hor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which compass direction do you move from Antarctica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outh Americ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ustrali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851280" y="1197000"/>
            <a:ext cx="5037120" cy="503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84D9-0D08-41DA-B349-545F2FE00F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2276640"/>
            <a:ext cx="2016360" cy="4105080"/>
          </a:xfrm>
          <a:prstGeom prst="wedgeRoundRectCallout">
            <a:avLst>
              <a:gd name="adj1" fmla="val 80708"/>
              <a:gd name="adj2" fmla="val -16935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have the worksheet, label i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do not have the worksheet, you will need to flick back and forward for this o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EC71-8207-47BD-8DCF-005017968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1. Can you spot three differences between the ice sheets over West Antarctica and East Antarctica? Think about their size, the heights of the ice sheets and the land below the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. If Antarctica’s area is about 14,000,000 square kilometres and the average ice sheet thickness is 2,450 metres, can you calculate the approximate volume of the ice in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3. What do you think would happen to the land buried under the ice if the ice sheets melted? Wh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E5CE-6ABD-4505-987A-3FEC29816A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8:48:11Z</dcterms:created>
  <dc:creator>Lindy</dc:creator>
  <dc:description/>
  <dc:language>en-US</dc:language>
  <cp:lastModifiedBy>Lindy</cp:lastModifiedBy>
  <dcterms:modified xsi:type="dcterms:W3CDTF">2009-04-19T13:12:14Z</dcterms:modified>
  <cp:revision>8</cp:revision>
  <dc:subject/>
  <dc:title>Antarctica</dc:title>
</cp:coreProperties>
</file>